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734-923F-450D-AC6D-4AD4142E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A81-3797-4980-8B11-8DAFD55F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404C-D3F3-4C2E-8120-208B311D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C54-7423-4159-95DC-F440C0D2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B1AD5-AE69-440A-95D0-A29077A4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3D8F2-799A-4E68-89CA-0C8D7C70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04443-8C6A-46C0-A1EA-7B099638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40144-936F-42AC-9646-7E52F132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93A94-8933-4179-B4B3-9C1B405F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F73FD-AF1A-4F29-B116-8DFE6779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05B1E-E475-48A2-A85D-220C2400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206-163D-4014-BBF6-FC548632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BB5ED-8A54-422A-AEEE-219E8F40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85A04-8A4C-467E-9592-E1B901C0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27481-1555-4669-9B23-CE2F41D3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12CBD-EA33-47EA-A5BE-E935678E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07CCD-2EA4-484A-8B9A-AECD2A0C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9240-9072-41F3-8453-C548CA47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B31D-2E98-47C8-A04F-7E04B5E8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41E-A9CD-44C9-9411-971A6163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3D36-22DF-46BE-B6D4-63E35609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D36-8724-4A1E-BD52-12C7EA52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1D24-20F3-4ABD-B4C8-894D24F7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560-4A46-4C40-8960-4669F66B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5879-F962-4814-9B9A-4289F446D7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DEE5-1F77-4846-A3D8-B152F07D37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63416"/>
                </a:solidFill>
                <a:latin typeface="Arial"/>
              </a:rPr>
              <a:t>ater   ollutio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By: Yours Truly, Breonn Nich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3200400" cy="2090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447920" y="1981080"/>
            <a:ext cx="53316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9880" y="1905120"/>
            <a:ext cx="5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057400" y="3048120"/>
            <a:ext cx="14479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3086280" y="3251160"/>
            <a:ext cx="129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ff"/>
                </a:solidFill>
                <a:latin typeface="Arial"/>
              </a:rPr>
              <a:t>H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0" y="3048120"/>
            <a:ext cx="685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5259600" y="32004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n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72200" y="20574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What Is Water Pollution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Water pollution is a change in water, contaminated by harmful substanc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1752120"/>
            <a:ext cx="4038480" cy="4496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962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When Does It Occu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2171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Water pollution occurs when a body of water is affected due to the addition of large amounts of material into the wat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153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Thermal Water Poll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Thermal pollution occurs when water is used as a coolant near a industrial plant, and then is returned to the aquatic environment at a higher temperature than bef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40388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Average Dump In Wat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As you can see, this is a graph of what is usually dumped into bodies of 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43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I Predict That…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My prediction is that the only way we could stop water pollution is by going out and picking up trash, and encouraging others to do the s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419076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648320" y="1523880"/>
            <a:ext cx="39621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63416"/>
                </a:solidFill>
                <a:latin typeface="Arial"/>
              </a:rPr>
              <a:t>ater   ollutio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By: Yours Truly, Breonn Nich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3200400" cy="2090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447920" y="1981080"/>
            <a:ext cx="53316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9880" y="1905120"/>
            <a:ext cx="5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99ff"/>
                </a:solidFill>
                <a:latin typeface="Arial"/>
              </a:rPr>
              <a:t>Scientis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One of the scientist who studies water pollution is Brunel University. Brunel is a hydrologis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28616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Where’s The Math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There is about 29% of water pollution in Louisiana, 18% in Indiana, 15% in Illinois, and 19% in Ohi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0:04:27Z</dcterms:created>
  <dc:creator>Katina Knighten</dc:creator>
  <dc:description/>
  <dc:language>en-US</dc:language>
  <cp:lastModifiedBy>Katina Knighten</cp:lastModifiedBy>
  <dcterms:modified xsi:type="dcterms:W3CDTF">2010-10-14T02:29:22Z</dcterms:modified>
  <cp:revision>1</cp:revision>
  <dc:subject/>
  <dc:title>ater   ollution</dc:title>
</cp:coreProperties>
</file>